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63A-B999-4A83-B431-0B7AA872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060-07B3-4427-ADAA-EF9A1FA5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DB1-5AB3-4169-A3F5-938D20B1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779-5076-4EA6-8E30-4FD011EC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F80-A879-4926-9EEA-14AA0C97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3B7-5AFE-43CF-9F48-C6EEB15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9FB-06BA-4909-B83E-1D187CBA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E1C-BC87-4B7E-B590-D48D6E6D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7C7-52E6-4E60-8F83-165C7928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B14-A645-4387-8298-BD799AD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5C0-CD36-4672-BFE3-75F4D61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A3A-4184-470A-9EA6-94BE2FBA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E433-D9AE-4943-BA77-392CEDB14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ur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 (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44:18Z</dcterms:created>
  <dc:creator>Ministry of Education</dc:creator>
  <dc:description/>
  <dc:language>en-US</dc:language>
  <cp:lastModifiedBy>Ministry of Education</cp:lastModifiedBy>
  <dcterms:modified xsi:type="dcterms:W3CDTF">2011-04-18T12:01:51Z</dcterms:modified>
  <cp:revision>2</cp:revision>
  <dc:subject/>
  <dc:title>Colour Correction</dc:title>
</cp:coreProperties>
</file>